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1BB70-A6C2-492B-A5D9-6EF768E8FEC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FADA7-F9ED-4671-8202-25FB8C7B7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FFF05-8F57-4718-924B-00E75D356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5743D-6C5A-49BC-BA20-E0FD25BA0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DB82E-AB6A-47DB-8581-9D056277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9109-DE39-4423-AF03-834BE083F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3E9F2-6BE3-49DF-B17D-C941F5D2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43E3B-7611-4810-B506-58F1B705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5346C-8FD5-4627-8111-C22F82A52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C82E4-3774-42B1-BF58-6BA46B8C7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9813-47DC-413E-8EC7-52B11BEC5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6E4B-1D84-4115-9BF2-1CA98854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44BF-277D-4624-9F8C-ABA816449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92F74-727A-42F3-A6EC-FE9FBCA3E3A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French and Indian War</a:t>
            </a: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4752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5400" spc="-1" strike="noStrike">
                <a:solidFill>
                  <a:srgbClr val="000000"/>
                </a:solidFill>
                <a:latin typeface="Arial"/>
              </a:rPr>
              <a:t>Cory Ty Brittany</a:t>
            </a:r>
            <a:endParaRPr b="0" lang="en-US" sz="5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o did the war involve?</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69480" cy="5016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war involved France,Great Britan and North America.</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54"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what happened was France and Great Britan were fighting for control over North America.</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n did this happen?</a:t>
            </a:r>
            <a:endParaRPr b="0" lang="en-US" sz="4400" spc="-1" strike="noStrike">
              <a:solidFill>
                <a:srgbClr val="000000"/>
              </a:solidFill>
              <a:latin typeface="Arial"/>
            </a:endParaRPr>
          </a:p>
        </p:txBody>
      </p:sp>
      <p:sp>
        <p:nvSpPr>
          <p:cNvPr id="56"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war started in 1754 and by the time it ended the year was 1763.</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t happened in North America because the French and British were trying to gain control over North America.</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did the war take place?</a:t>
            </a:r>
            <a:endParaRPr b="0" lang="en-US" sz="4400" spc="-1" strike="noStrike">
              <a:solidFill>
                <a:srgbClr val="000000"/>
              </a:solidFill>
              <a:latin typeface="Arial"/>
            </a:endParaRPr>
          </a:p>
        </p:txBody>
      </p:sp>
      <p:sp>
        <p:nvSpPr>
          <p:cNvPr id="60"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t happened because Europe wanted North America.The outcome was the Europeans were holding North America but realized it was too much for them, they gave it back and they had signed the “Treaty of Paris” all of this all eventually led to the American Revolu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25:45Z</dcterms:created>
  <dc:creator/>
  <dc:description/>
  <dc:language>en-US</dc:language>
  <cp:lastModifiedBy/>
  <cp:revision>1</cp:revision>
  <dc:subject/>
  <dc:title/>
</cp:coreProperties>
</file>